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  <p:sldId id="351" r:id="rId114"/>
    <p:sldId id="352" r:id="rId115"/>
    <p:sldId id="353" r:id="rId116"/>
    <p:sldId id="354" r:id="rId117"/>
    <p:sldId id="355" r:id="rId118"/>
    <p:sldId id="356" r:id="rId119"/>
    <p:sldId id="357" r:id="rId120"/>
    <p:sldId id="358" r:id="rId121"/>
    <p:sldId id="359" r:id="rId122"/>
    <p:sldId id="360" r:id="rId123"/>
    <p:sldId id="361" r:id="rId124"/>
    <p:sldId id="362" r:id="rId125"/>
    <p:sldId id="363" r:id="rId126"/>
    <p:sldId id="364" r:id="rId127"/>
    <p:sldId id="365" r:id="rId128"/>
    <p:sldId id="366" r:id="rId129"/>
    <p:sldId id="367" r:id="rId130"/>
    <p:sldId id="368" r:id="rId131"/>
    <p:sldId id="369" r:id="rId132"/>
    <p:sldId id="370" r:id="rId133"/>
    <p:sldId id="371" r:id="rId134"/>
    <p:sldId id="372" r:id="rId135"/>
    <p:sldId id="373" r:id="rId136"/>
    <p:sldId id="374" r:id="rId137"/>
    <p:sldId id="375" r:id="rId138"/>
    <p:sldId id="376" r:id="rId139"/>
    <p:sldId id="377" r:id="rId140"/>
    <p:sldId id="378" r:id="rId141"/>
    <p:sldId id="379" r:id="rId142"/>
    <p:sldId id="380" r:id="rId143"/>
    <p:sldId id="381" r:id="rId144"/>
    <p:sldId id="382" r:id="rId145"/>
    <p:sldId id="383" r:id="rId146"/>
    <p:sldId id="384" r:id="rId147"/>
    <p:sldId id="385" r:id="rId148"/>
    <p:sldId id="386" r:id="rId149"/>
    <p:sldId id="387" r:id="rId150"/>
    <p:sldId id="388" r:id="rId151"/>
    <p:sldId id="389" r:id="rId152"/>
    <p:sldId id="390" r:id="rId153"/>
    <p:sldId id="391" r:id="rId154"/>
    <p:sldId id="392" r:id="rId155"/>
    <p:sldId id="393" r:id="rId156"/>
    <p:sldId id="394" r:id="rId157"/>
    <p:sldId id="395" r:id="rId158"/>
    <p:sldId id="396" r:id="rId159"/>
    <p:sldId id="397" r:id="rId160"/>
    <p:sldId id="398" r:id="rId161"/>
    <p:sldId id="399" r:id="rId162"/>
    <p:sldId id="400" r:id="rId163"/>
    <p:sldId id="401" r:id="rId164"/>
    <p:sldId id="402" r:id="rId165"/>
    <p:sldId id="403" r:id="rId166"/>
    <p:sldId id="404" r:id="rId167"/>
    <p:sldId id="405" r:id="rId168"/>
    <p:sldId id="406" r:id="rId169"/>
    <p:sldId id="407" r:id="rId170"/>
    <p:sldId id="408" r:id="rId171"/>
    <p:sldId id="409" r:id="rId172"/>
    <p:sldId id="410" r:id="rId173"/>
    <p:sldId id="411" r:id="rId174"/>
    <p:sldId id="412" r:id="rId175"/>
    <p:sldId id="413" r:id="rId176"/>
    <p:sldId id="414" r:id="rId177"/>
    <p:sldId id="415" r:id="rId178"/>
    <p:sldId id="416" r:id="rId179"/>
    <p:sldId id="417" r:id="rId180"/>
    <p:sldId id="418" r:id="rId181"/>
    <p:sldId id="419" r:id="rId182"/>
    <p:sldId id="420" r:id="rId183"/>
    <p:sldId id="421" r:id="rId184"/>
    <p:sldId id="422" r:id="rId185"/>
    <p:sldId id="423" r:id="rId186"/>
    <p:sldId id="424" r:id="rId187"/>
    <p:sldId id="425" r:id="rId188"/>
    <p:sldId id="426" r:id="rId189"/>
    <p:sldId id="427" r:id="rId190"/>
    <p:sldId id="428" r:id="rId191"/>
    <p:sldId id="429" r:id="rId192"/>
    <p:sldId id="430" r:id="rId193"/>
    <p:sldId id="431" r:id="rId194"/>
    <p:sldId id="432" r:id="rId195"/>
    <p:sldId id="433" r:id="rId196"/>
    <p:sldId id="434" r:id="rId197"/>
    <p:sldId id="435" r:id="rId198"/>
    <p:sldId id="436" r:id="rId199"/>
    <p:sldId id="437" r:id="rId200"/>
    <p:sldId id="438" r:id="rId201"/>
    <p:sldId id="439" r:id="rId202"/>
    <p:sldId id="440" r:id="rId203"/>
    <p:sldId id="441" r:id="rId204"/>
    <p:sldId id="442" r:id="rId205"/>
    <p:sldId id="443" r:id="rId206"/>
    <p:sldId id="444" r:id="rId207"/>
    <p:sldId id="445" r:id="rId208"/>
    <p:sldId id="446" r:id="rId209"/>
    <p:sldId id="447" r:id="rId210"/>
    <p:sldId id="448" r:id="rId211"/>
    <p:sldId id="449" r:id="rId2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slide" Target="slides/slide96.xml"/><Relationship Id="rId115" Type="http://schemas.openxmlformats.org/officeDocument/2006/relationships/slide" Target="slides/slide97.xml"/><Relationship Id="rId116" Type="http://schemas.openxmlformats.org/officeDocument/2006/relationships/slide" Target="slides/slide98.xml"/><Relationship Id="rId117" Type="http://schemas.openxmlformats.org/officeDocument/2006/relationships/slide" Target="slides/slide99.xml"/><Relationship Id="rId118" Type="http://schemas.openxmlformats.org/officeDocument/2006/relationships/slide" Target="slides/slide100.xml"/><Relationship Id="rId119" Type="http://schemas.openxmlformats.org/officeDocument/2006/relationships/slide" Target="slides/slide101.xml"/><Relationship Id="rId120" Type="http://schemas.openxmlformats.org/officeDocument/2006/relationships/slide" Target="slides/slide102.xml"/><Relationship Id="rId121" Type="http://schemas.openxmlformats.org/officeDocument/2006/relationships/slide" Target="slides/slide103.xml"/><Relationship Id="rId122" Type="http://schemas.openxmlformats.org/officeDocument/2006/relationships/slide" Target="slides/slide104.xml"/><Relationship Id="rId123" Type="http://schemas.openxmlformats.org/officeDocument/2006/relationships/slide" Target="slides/slide105.xml"/><Relationship Id="rId124" Type="http://schemas.openxmlformats.org/officeDocument/2006/relationships/slide" Target="slides/slide106.xml"/><Relationship Id="rId125" Type="http://schemas.openxmlformats.org/officeDocument/2006/relationships/slide" Target="slides/slide107.xml"/><Relationship Id="rId126" Type="http://schemas.openxmlformats.org/officeDocument/2006/relationships/slide" Target="slides/slide108.xml"/><Relationship Id="rId127" Type="http://schemas.openxmlformats.org/officeDocument/2006/relationships/slide" Target="slides/slide109.xml"/><Relationship Id="rId128" Type="http://schemas.openxmlformats.org/officeDocument/2006/relationships/slide" Target="slides/slide110.xml"/><Relationship Id="rId129" Type="http://schemas.openxmlformats.org/officeDocument/2006/relationships/slide" Target="slides/slide111.xml"/><Relationship Id="rId130" Type="http://schemas.openxmlformats.org/officeDocument/2006/relationships/slide" Target="slides/slide112.xml"/><Relationship Id="rId131" Type="http://schemas.openxmlformats.org/officeDocument/2006/relationships/slide" Target="slides/slide113.xml"/><Relationship Id="rId132" Type="http://schemas.openxmlformats.org/officeDocument/2006/relationships/slide" Target="slides/slide114.xml"/><Relationship Id="rId133" Type="http://schemas.openxmlformats.org/officeDocument/2006/relationships/slide" Target="slides/slide115.xml"/><Relationship Id="rId134" Type="http://schemas.openxmlformats.org/officeDocument/2006/relationships/slide" Target="slides/slide116.xml"/><Relationship Id="rId135" Type="http://schemas.openxmlformats.org/officeDocument/2006/relationships/slide" Target="slides/slide117.xml"/><Relationship Id="rId136" Type="http://schemas.openxmlformats.org/officeDocument/2006/relationships/slide" Target="slides/slide118.xml"/><Relationship Id="rId137" Type="http://schemas.openxmlformats.org/officeDocument/2006/relationships/slide" Target="slides/slide119.xml"/><Relationship Id="rId138" Type="http://schemas.openxmlformats.org/officeDocument/2006/relationships/slide" Target="slides/slide120.xml"/><Relationship Id="rId139" Type="http://schemas.openxmlformats.org/officeDocument/2006/relationships/slide" Target="slides/slide121.xml"/><Relationship Id="rId140" Type="http://schemas.openxmlformats.org/officeDocument/2006/relationships/slide" Target="slides/slide122.xml"/><Relationship Id="rId141" Type="http://schemas.openxmlformats.org/officeDocument/2006/relationships/slide" Target="slides/slide123.xml"/><Relationship Id="rId142" Type="http://schemas.openxmlformats.org/officeDocument/2006/relationships/slide" Target="slides/slide124.xml"/><Relationship Id="rId143" Type="http://schemas.openxmlformats.org/officeDocument/2006/relationships/slide" Target="slides/slide125.xml"/><Relationship Id="rId144" Type="http://schemas.openxmlformats.org/officeDocument/2006/relationships/slide" Target="slides/slide126.xml"/><Relationship Id="rId145" Type="http://schemas.openxmlformats.org/officeDocument/2006/relationships/slide" Target="slides/slide127.xml"/><Relationship Id="rId146" Type="http://schemas.openxmlformats.org/officeDocument/2006/relationships/slide" Target="slides/slide128.xml"/><Relationship Id="rId147" Type="http://schemas.openxmlformats.org/officeDocument/2006/relationships/slide" Target="slides/slide129.xml"/><Relationship Id="rId148" Type="http://schemas.openxmlformats.org/officeDocument/2006/relationships/slide" Target="slides/slide130.xml"/><Relationship Id="rId149" Type="http://schemas.openxmlformats.org/officeDocument/2006/relationships/slide" Target="slides/slide131.xml"/><Relationship Id="rId150" Type="http://schemas.openxmlformats.org/officeDocument/2006/relationships/slide" Target="slides/slide132.xml"/><Relationship Id="rId151" Type="http://schemas.openxmlformats.org/officeDocument/2006/relationships/slide" Target="slides/slide133.xml"/><Relationship Id="rId152" Type="http://schemas.openxmlformats.org/officeDocument/2006/relationships/slide" Target="slides/slide134.xml"/><Relationship Id="rId153" Type="http://schemas.openxmlformats.org/officeDocument/2006/relationships/slide" Target="slides/slide135.xml"/><Relationship Id="rId154" Type="http://schemas.openxmlformats.org/officeDocument/2006/relationships/slide" Target="slides/slide136.xml"/><Relationship Id="rId155" Type="http://schemas.openxmlformats.org/officeDocument/2006/relationships/slide" Target="slides/slide137.xml"/><Relationship Id="rId156" Type="http://schemas.openxmlformats.org/officeDocument/2006/relationships/slide" Target="slides/slide138.xml"/><Relationship Id="rId157" Type="http://schemas.openxmlformats.org/officeDocument/2006/relationships/slide" Target="slides/slide139.xml"/><Relationship Id="rId158" Type="http://schemas.openxmlformats.org/officeDocument/2006/relationships/slide" Target="slides/slide140.xml"/><Relationship Id="rId159" Type="http://schemas.openxmlformats.org/officeDocument/2006/relationships/slide" Target="slides/slide141.xml"/><Relationship Id="rId160" Type="http://schemas.openxmlformats.org/officeDocument/2006/relationships/slide" Target="slides/slide142.xml"/><Relationship Id="rId161" Type="http://schemas.openxmlformats.org/officeDocument/2006/relationships/slide" Target="slides/slide143.xml"/><Relationship Id="rId162" Type="http://schemas.openxmlformats.org/officeDocument/2006/relationships/slide" Target="slides/slide144.xml"/><Relationship Id="rId163" Type="http://schemas.openxmlformats.org/officeDocument/2006/relationships/slide" Target="slides/slide145.xml"/><Relationship Id="rId164" Type="http://schemas.openxmlformats.org/officeDocument/2006/relationships/slide" Target="slides/slide146.xml"/><Relationship Id="rId165" Type="http://schemas.openxmlformats.org/officeDocument/2006/relationships/slide" Target="slides/slide147.xml"/><Relationship Id="rId166" Type="http://schemas.openxmlformats.org/officeDocument/2006/relationships/slide" Target="slides/slide148.xml"/><Relationship Id="rId167" Type="http://schemas.openxmlformats.org/officeDocument/2006/relationships/slide" Target="slides/slide149.xml"/><Relationship Id="rId168" Type="http://schemas.openxmlformats.org/officeDocument/2006/relationships/slide" Target="slides/slide150.xml"/><Relationship Id="rId169" Type="http://schemas.openxmlformats.org/officeDocument/2006/relationships/slide" Target="slides/slide151.xml"/><Relationship Id="rId170" Type="http://schemas.openxmlformats.org/officeDocument/2006/relationships/slide" Target="slides/slide152.xml"/><Relationship Id="rId171" Type="http://schemas.openxmlformats.org/officeDocument/2006/relationships/slide" Target="slides/slide153.xml"/><Relationship Id="rId172" Type="http://schemas.openxmlformats.org/officeDocument/2006/relationships/slide" Target="slides/slide154.xml"/><Relationship Id="rId173" Type="http://schemas.openxmlformats.org/officeDocument/2006/relationships/slide" Target="slides/slide155.xml"/><Relationship Id="rId174" Type="http://schemas.openxmlformats.org/officeDocument/2006/relationships/slide" Target="slides/slide156.xml"/><Relationship Id="rId175" Type="http://schemas.openxmlformats.org/officeDocument/2006/relationships/slide" Target="slides/slide157.xml"/><Relationship Id="rId176" Type="http://schemas.openxmlformats.org/officeDocument/2006/relationships/slide" Target="slides/slide158.xml"/><Relationship Id="rId177" Type="http://schemas.openxmlformats.org/officeDocument/2006/relationships/slide" Target="slides/slide159.xml"/><Relationship Id="rId178" Type="http://schemas.openxmlformats.org/officeDocument/2006/relationships/slide" Target="slides/slide160.xml"/><Relationship Id="rId179" Type="http://schemas.openxmlformats.org/officeDocument/2006/relationships/slide" Target="slides/slide161.xml"/><Relationship Id="rId180" Type="http://schemas.openxmlformats.org/officeDocument/2006/relationships/slide" Target="slides/slide162.xml"/><Relationship Id="rId181" Type="http://schemas.openxmlformats.org/officeDocument/2006/relationships/slide" Target="slides/slide163.xml"/><Relationship Id="rId182" Type="http://schemas.openxmlformats.org/officeDocument/2006/relationships/slide" Target="slides/slide164.xml"/><Relationship Id="rId183" Type="http://schemas.openxmlformats.org/officeDocument/2006/relationships/slide" Target="slides/slide165.xml"/><Relationship Id="rId184" Type="http://schemas.openxmlformats.org/officeDocument/2006/relationships/slide" Target="slides/slide166.xml"/><Relationship Id="rId185" Type="http://schemas.openxmlformats.org/officeDocument/2006/relationships/slide" Target="slides/slide167.xml"/><Relationship Id="rId186" Type="http://schemas.openxmlformats.org/officeDocument/2006/relationships/slide" Target="slides/slide168.xml"/><Relationship Id="rId187" Type="http://schemas.openxmlformats.org/officeDocument/2006/relationships/slide" Target="slides/slide169.xml"/><Relationship Id="rId188" Type="http://schemas.openxmlformats.org/officeDocument/2006/relationships/slide" Target="slides/slide170.xml"/><Relationship Id="rId189" Type="http://schemas.openxmlformats.org/officeDocument/2006/relationships/slide" Target="slides/slide171.xml"/><Relationship Id="rId190" Type="http://schemas.openxmlformats.org/officeDocument/2006/relationships/slide" Target="slides/slide172.xml"/><Relationship Id="rId191" Type="http://schemas.openxmlformats.org/officeDocument/2006/relationships/slide" Target="slides/slide173.xml"/><Relationship Id="rId192" Type="http://schemas.openxmlformats.org/officeDocument/2006/relationships/slide" Target="slides/slide174.xml"/><Relationship Id="rId193" Type="http://schemas.openxmlformats.org/officeDocument/2006/relationships/slide" Target="slides/slide175.xml"/><Relationship Id="rId194" Type="http://schemas.openxmlformats.org/officeDocument/2006/relationships/slide" Target="slides/slide176.xml"/><Relationship Id="rId195" Type="http://schemas.openxmlformats.org/officeDocument/2006/relationships/slide" Target="slides/slide177.xml"/><Relationship Id="rId196" Type="http://schemas.openxmlformats.org/officeDocument/2006/relationships/slide" Target="slides/slide178.xml"/><Relationship Id="rId197" Type="http://schemas.openxmlformats.org/officeDocument/2006/relationships/slide" Target="slides/slide179.xml"/><Relationship Id="rId198" Type="http://schemas.openxmlformats.org/officeDocument/2006/relationships/slide" Target="slides/slide180.xml"/><Relationship Id="rId199" Type="http://schemas.openxmlformats.org/officeDocument/2006/relationships/slide" Target="slides/slide181.xml"/><Relationship Id="rId200" Type="http://schemas.openxmlformats.org/officeDocument/2006/relationships/slide" Target="slides/slide182.xml"/><Relationship Id="rId201" Type="http://schemas.openxmlformats.org/officeDocument/2006/relationships/slide" Target="slides/slide183.xml"/><Relationship Id="rId202" Type="http://schemas.openxmlformats.org/officeDocument/2006/relationships/slide" Target="slides/slide184.xml"/><Relationship Id="rId203" Type="http://schemas.openxmlformats.org/officeDocument/2006/relationships/slide" Target="slides/slide185.xml"/><Relationship Id="rId204" Type="http://schemas.openxmlformats.org/officeDocument/2006/relationships/slide" Target="slides/slide186.xml"/><Relationship Id="rId205" Type="http://schemas.openxmlformats.org/officeDocument/2006/relationships/slide" Target="slides/slide187.xml"/><Relationship Id="rId206" Type="http://schemas.openxmlformats.org/officeDocument/2006/relationships/slide" Target="slides/slide188.xml"/><Relationship Id="rId207" Type="http://schemas.openxmlformats.org/officeDocument/2006/relationships/slide" Target="slides/slide189.xml"/><Relationship Id="rId208" Type="http://schemas.openxmlformats.org/officeDocument/2006/relationships/slide" Target="slides/slide190.xml"/><Relationship Id="rId209" Type="http://schemas.openxmlformats.org/officeDocument/2006/relationships/slide" Target="slides/slide191.xml"/><Relationship Id="rId210" Type="http://schemas.openxmlformats.org/officeDocument/2006/relationships/slide" Target="slides/slide192.xml"/><Relationship Id="rId211" Type="http://schemas.openxmlformats.org/officeDocument/2006/relationships/slide" Target="slides/slide193.xml"/><Relationship Id="rId212" Type="http://schemas.openxmlformats.org/officeDocument/2006/relationships/slide" Target="slides/slide194.xml"/><Relationship Id="rId2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3A1A-6725-40D7-A4B5-69DA19EF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D093-140B-4034-ACFF-6FF3C992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A1516-065C-48FF-9EFD-ACEDC501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454BF-5F8F-4865-A882-D705570E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681F0-BC5F-472A-8037-B188D4277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9DE1FF-7831-4E68-BD23-20285B14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EFEF2-BC5F-4559-8010-D95DE3AE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2283B-2757-4E01-88CB-B6C204D8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B7BED-67C9-483F-846F-CAE04C85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3D19AC-16DC-434E-81F9-26D915A1F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9E2D9-651A-4B9F-87C3-354FFD66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2E3B9-7E13-4060-BE61-D39799F0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AB8C-D263-4D22-B3A5-A4E9538F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B7D8B-E0A5-468E-9BB8-1DC46CF7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990D6-9903-4762-B916-F820D152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A1276-79B5-479C-A853-F3AC03E1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2984E-73EA-4C31-87EB-599D38FB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8C673-4963-41D6-B2C7-7E1163F0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7F48E9-CEF2-4B36-AD2D-CA164E1C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0301E-702F-46B2-857D-D391D156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05AD2-80D4-4B55-848A-D9F58DFA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29F6D-6479-4425-890E-13FCA9AB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73860-647E-4FC6-AF78-80E6D06C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113-8938-48FD-8F3B-2DE61038E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02F46-A660-4E00-9300-3ED6BBE5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794B5-E2B1-4F15-BF79-F685672F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E4F91-A7E2-43BA-91B7-F738DBF9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DD5E0-A18A-49CA-8714-2FB6CCC1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7C884-55C0-4C53-8764-BF936955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28445-A77E-4075-BE63-3B9E37F1E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45631-AFBB-4042-B2A9-B38417D8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76AF7-8C8C-4005-B124-8568C525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A7862-26E2-4B72-B015-982BA5B9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8C013-A345-4F3B-9235-00A495E6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D9E2-F19D-4993-8C6D-CE8D7249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34DD3-454C-49D9-B589-182A2A12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1C494-72B8-48FF-9199-1098C121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090B5-C87F-47A6-B767-D9377DB5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368F9-9F7C-44A1-8D36-77EAB2B5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F8DC8-D595-44E8-9500-B372DF6C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8523A-6CE5-4C55-8924-1F1AFB35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5031F-1E39-4ECD-9E4F-5A6B5B07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E5D94-C437-4C4D-AE51-72B27759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B77A1-04C8-4AC7-86FC-E00673A5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CC2B0-7035-402D-BD4B-93E6DC56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7C1D-CBD2-4E5E-83E0-2A1175310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5933D-43E3-4B52-8808-9B620F02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45A0E-34FC-4AC5-81D5-44B637C1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6DB8D-289C-45E1-A68B-F3464E54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2AF36-BB7D-4F2C-A6F0-EBD07AAC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0B762-595F-46BE-AB9D-10F1A871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F6D89-2CE2-4F09-BA21-FE21A87C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625BB-1F22-4674-B132-F2058EAE8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FEC8F-7AE8-4DB4-B57F-BF802C65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D0908A-7A5B-46D2-99D6-E74189D5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280217-9C66-41B5-9EFF-ADD0B1FE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543F7-3671-4E1B-A89B-1D30999D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B3060F-59B9-493A-8C6D-A938459F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269D2F-E484-4A57-ACC0-CD9EA0B4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B48EF8-ADEA-46D4-AB06-8C62FC0F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47A89D-D373-48EF-AE6B-E5ABDB10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70A1D6-BC6E-43E4-9351-CB01FEA3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195220-1416-4398-AC7C-977FD04F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FBC87B-3604-4DE2-BF2A-4F7DAF65D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A035DD-14D8-4732-A6E1-B5152F0F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3C452C-EC4F-457C-9FDD-93765F3C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AA34A9-425E-44E6-AD17-1968A10C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7628-7DD6-418E-9D1C-286826EE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2B80E7-53CC-49E0-953C-83004F3D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ED3766-BEDD-45B9-8682-877B8DFC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134E9-7086-4A7E-A164-4E2AF2B8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BC544-7238-487D-8B37-985C084D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FBB72A-C01D-4390-918D-12FAB276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0BA189-BEC3-47EA-9E27-18CAD47A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B675E4-1794-4DDD-A36E-A34F58EE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C5DED7-D6DD-4300-B4A7-E5229D3F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DEB76B-FD0C-4124-A83F-31454691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1A8F8A-7973-4A84-A242-3D8F59B86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652A-5B85-4539-B03D-67536C16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EAC6E2-8BC7-4144-94DE-B8A3B79A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76DFDA-2366-4D73-BD51-BCEC6613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D273BC-C415-4214-A0D0-5A53735F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0012F7-BB92-4970-88CB-1B03643F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29AA51-DC8D-4381-9B6F-C11030E1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0B1EF7-8511-4770-82B0-ACF9D597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4AA4DC-0103-4DFB-853F-10922A61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C3FE3A-29F8-486B-8715-E0455C5B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D6D3DA-2205-4697-B63E-21D3688E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30E661-590F-462F-9E4F-15D2BD04E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D313-B324-4134-ACC9-78D81002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CA82C6-C34C-4245-A2AB-04BFC4C4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12ACBD-4F7C-493B-B6B6-76945305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485A4C-3726-4E3E-A964-217B4F1D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F76B8B-1B50-429C-AD06-0B05862E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8B107E-E9DB-4978-A0A6-3E697BB9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65AC42-8F00-4424-87F9-9A82B6B7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D17915-4382-4BD5-8A36-4C948A50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021A0E-305B-4D1C-B153-D8910A154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A36029-0803-4B6B-8414-E80C60BC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6CE27-7AD5-44ED-ADBB-19344A26C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0D65-E09B-46A2-AC9A-177A33DD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EBFE9-435A-4AD8-9F03-DD91BDEB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E10405-7E83-409A-9DE3-B48192EA6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EEA00E-E245-40C3-85AB-F9CFF7D8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BCA236-FBED-4433-8018-C3E1A2930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8F9F29-AD9F-422B-A9B7-FAEFBF5D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0DF960-46A0-4598-A3E1-15E40680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0FF1B0-4DA4-43E4-B6C5-A5A0604E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4011D3-F632-4E68-B635-CBBE9440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828EBB-BC6C-44B1-8B1C-2FC5FE7D2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67B79A-B880-4A0D-B33E-56AAD569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6F5-1D25-43CA-B305-63AD138F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3076-9EA6-4709-982A-EBC436B0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694EFE-98FC-41F7-9F2A-10D8E397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D7036-F3A3-4974-BA12-6AF0C973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C27C58-54FE-47B9-BCF5-BD9EB5FA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43107B-381F-4F97-978E-E2B97EAB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D603C2-6D9B-4643-A6FA-F1C35215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39DB-168F-48AE-BB61-8B4D1EA7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C5C4-5EFA-413B-B6F2-ED2FB4D4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4734-1625-416D-8D0F-59E9A9A76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270AE-AFA9-42B7-84BD-526F0F75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EE991-8321-4885-9D44-69BB1BBC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194B-50DA-4E60-B132-F216D739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1A514-74BC-42AE-99B9-3CE87984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0BDA0-A30E-4B88-9950-E1D4479C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D9F8C-13B8-44B6-9FA0-AFEC519B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1BA7-3783-41CF-A47E-0325A203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0F1ED-C445-45FB-A1B6-609E95D3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9C13D-068B-4CC2-A077-F9517CB2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E8290-05D4-4D1E-AC7C-061C3645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4EC2F-227D-4F1A-B4C4-18068285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5BE2B-0BDF-4ADA-9113-D63F902A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326AC-9FEA-4ED6-A496-574FA33E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57A78-1DDF-4ABB-B925-05EEE9E9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27A73-533C-47FC-8C25-5DCA9A5D3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43FF8-7279-47D7-B569-CEFDED0E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B78CC-11DD-4127-A0D0-99F4BA86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337-C06B-4A65-8319-F4BAA8F7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0523A-84E6-474E-941D-0CC21982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57EBB-EAE0-4BEE-8DA0-5DE98F7E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9E29C-836F-40BB-B123-19DC4FB8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42A42-1D22-4195-ABA4-EF5BC4E0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0861C-CA00-4AC2-931C-73696F99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A3F88-5D10-4D46-A137-B5E25AA2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3B630-E382-400D-B62D-C4CD5AEC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186C5-44C3-4B86-9FAD-9FD0CB59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33CF4-BFE6-425A-96AA-33BBA928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622B8-4834-4A45-85B5-A8129B0F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E84-8B5B-4DF3-AAFF-CC0C5F00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6A1CE-1CFE-4921-9E7E-0C2D1E0F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52E6D-EEBD-4E7C-9084-E3302A40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DADA3-5D28-4A7D-B6EE-6683672A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CEE35-D040-471E-A049-8834046A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D271C-A5A8-445F-BE72-744E571A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44EDD-67F4-49F4-832C-D928C403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F0983-E872-42A1-98EB-97144AD5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56738-332D-4DAE-BF26-7D7A72A4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B3642-312D-4484-8C31-5A3A21D9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7FA2C-6909-45EC-9089-24FE3B83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07D-27A7-4086-AE42-5DC3AC9C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F0AA1-77F5-4B42-A4B1-16941B910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F2624-F888-41D0-926C-2D2BE3DB2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CECAA-2C84-4053-8B63-7B8263E9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E0EC1-AED2-48A5-8760-1F1C4C33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56276-435B-4568-892C-08D59DA4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6620A-8D60-4138-847C-EAC7BFE7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6DD9C-0BF6-432A-BCF1-A01BEA0C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5E76A-DE6F-4BE3-9EE9-CFB066BD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04227-212C-4D2B-9785-A5421C796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B862E-5469-4A2C-AB23-81BA080C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AAC4-C9DD-4641-ACFD-BCC2952C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0D5B5-2DC5-4F11-94DF-A571C868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FE625-4B00-4EF1-8924-0571F12F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23832-64EC-4529-93C5-91AB3263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DF3417-456A-421B-8ABA-378E346F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14B9FD-ECB9-46C8-AE7C-22518658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29F0D-80F7-4CA1-AEE4-7A85AC76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2119A-6076-4B2E-8548-6A4B79E7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ED914-5FED-4E77-9B3D-7C5EC474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012ED-EC6F-464C-8F04-8EE46807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77DBD-6220-42C9-902B-C1110D5C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FD00-34F6-47F5-BD2E-CF144DD0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306941-34C6-4E20-BB74-5D3D7143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21EDF-AECB-409C-859E-FA16E93B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63295-AE0F-478D-8F8C-7EDF3D73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7FC14-8085-40F8-B3DB-8EB52E6C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9430C-FB12-4EA9-90A4-D8705B9B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744F9-9098-46A6-8C1A-A413919C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D2333D-29CE-4887-B6DB-B2236AFE3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8539B-408A-4F2B-A4EF-760FA1B1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F6E2BB-4CAD-4AED-8E67-C47BD1521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51B6E-ED3B-4A26-90BF-55BAEA2A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5DE-29D7-40F9-ACDA-109009A5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D9FB0-31A5-4CAA-AD01-AB354BCE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BF14D5-C829-4228-88C6-C16E1858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7286C-3B1E-4D44-A359-99C995E1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7844E-C010-48AA-80F1-D5E6CF92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95E87-473D-437C-A645-9808E550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B46D4-7E39-47E5-8B83-AD78425E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F5E9B-E9C9-48D0-8EDD-75A8486FE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5D9E1-58DB-4AEE-B52E-2FB57A72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07D0F-4053-4AE8-A454-99D19755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E39522-0893-49FC-BCC4-56B7AE60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F146-4694-4788-A2E9-E877758291C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16461-A916-4875-8EDE-6A425AED917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47CF-8636-44C7-BDCC-B213CD02850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0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0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2A56-2140-47BD-9FE0-E4B2F450D7B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416C-420C-453F-92FF-25E9FDA8096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0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0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39E6-6E83-413F-9FA8-25900672DE0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4E26-5DAA-4FB1-971B-7521EC6766E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DBE7-8BBE-4F90-8936-8F601D758F2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C568-74BE-4517-8F81-865A206CA77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BF5C6-7A41-4F35-A9F7-46CE4E53C54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27C1-B5C4-4B23-B78D-115682E1360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38FB-779B-4661-98B5-4B0EAB8B078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86EC-7BB0-44BA-9E1F-7C08FD0F66D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65D0-7D68-4438-92E1-A206A32B520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AEC7-665E-47ED-BFB0-458D11B987C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3E99-640E-4CF3-9A5F-36C26D90E8A7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2323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0f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3B42-AA46-4DD9-818E-EE4BBB952D9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upo 10"/>
          <p:cNvGrpSpPr/>
          <p:nvPr/>
        </p:nvGrpSpPr>
        <p:grpSpPr>
          <a:xfrm>
            <a:off x="1258920" y="1752480"/>
            <a:ext cx="6678720" cy="3872520"/>
            <a:chOff x="1258920" y="1752480"/>
            <a:chExt cx="6678720" cy="3872520"/>
          </a:xfrm>
        </p:grpSpPr>
        <p:sp>
          <p:nvSpPr>
            <p:cNvPr id="1177" name="Rectángulo 1"/>
            <p:cNvSpPr/>
            <p:nvPr/>
          </p:nvSpPr>
          <p:spPr>
            <a:xfrm>
              <a:off x="1258920" y="1752480"/>
              <a:ext cx="6678720" cy="38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6000" spc="-1" strike="noStrike">
                  <a:solidFill>
                    <a:srgbClr val="000000"/>
                  </a:solidFill>
                  <a:latin typeface="Century Gothic"/>
                </a:rPr>
                <a:t>La </a:t>
              </a:r>
              <a:r>
                <a:rPr b="0" lang="es-ES" sz="8000" spc="-1" strike="noStrike">
                  <a:solidFill>
                    <a:srgbClr val="000000"/>
                  </a:solidFill>
                  <a:latin typeface="Century Gothic"/>
                </a:rPr>
                <a:t>Fuente</a:t>
              </a:r>
              <a:r>
                <a:rPr b="0" lang="es-ES" sz="6000" spc="-1" strike="noStrike">
                  <a:solidFill>
                    <a:srgbClr val="000000"/>
                  </a:solidFill>
                  <a:latin typeface="Century Gothic"/>
                </a:rPr>
                <a:t> De </a:t>
              </a:r>
              <a:r>
                <a:rPr b="0" lang="es-ES" sz="8000" spc="-1" strike="noStrike">
                  <a:solidFill>
                    <a:srgbClr val="000000"/>
                  </a:solidFill>
                  <a:latin typeface="Century Gothic"/>
                </a:rPr>
                <a:t>Regocijo</a:t>
              </a:r>
              <a:r>
                <a:rPr b="0" lang="es-ES" sz="6000" spc="-1" strike="noStrike">
                  <a:solidFill>
                    <a:srgbClr val="000000"/>
                  </a:solidFill>
                  <a:latin typeface="Century Gothic"/>
                </a:rPr>
                <a:t> Y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800" spc="-1" strike="noStrike">
                  <a:solidFill>
                    <a:srgbClr val="000000"/>
                  </a:solidFill>
                  <a:latin typeface="Baskerville Old Face"/>
                </a:rPr>
                <a:t>FELICIDAD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Conector recto 5"/>
            <p:cNvSpPr/>
            <p:nvPr/>
          </p:nvSpPr>
          <p:spPr>
            <a:xfrm>
              <a:off x="1690920" y="4365000"/>
              <a:ext cx="2664360" cy="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Conector recto 9"/>
            <p:cNvSpPr/>
            <p:nvPr/>
          </p:nvSpPr>
          <p:spPr>
            <a:xfrm>
              <a:off x="4715280" y="4365000"/>
              <a:ext cx="2664360" cy="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Elipse 8"/>
            <p:cNvSpPr/>
            <p:nvPr/>
          </p:nvSpPr>
          <p:spPr>
            <a:xfrm>
              <a:off x="4499280" y="4293000"/>
              <a:ext cx="72000" cy="70560"/>
            </a:xfrm>
            <a:prstGeom prst="ellipse">
              <a:avLst/>
            </a:prstGeom>
            <a:solidFill>
              <a:srgbClr val="000000"/>
            </a:solidFill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ángulo 1"/>
          <p:cNvSpPr/>
          <p:nvPr/>
        </p:nvSpPr>
        <p:spPr>
          <a:xfrm>
            <a:off x="1116000" y="2090880"/>
            <a:ext cx="67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as si eres un verdadero representante de Jesús, puede ser que por ti sean inducidos a conocer algo de su bondad y sean ganados para amarlo y servir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ángulo 1"/>
          <p:cNvSpPr/>
          <p:nvPr/>
        </p:nvSpPr>
        <p:spPr>
          <a:xfrm>
            <a:off x="1692360" y="1739880"/>
            <a:ext cx="59576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risto no vino para ser servido sino para servir;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y cuando su amor reine en nuestro corazón, seguiremos su 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ángulo 1"/>
          <p:cNvSpPr/>
          <p:nvPr/>
        </p:nvSpPr>
        <p:spPr>
          <a:xfrm>
            <a:off x="1763640" y="2133720"/>
            <a:ext cx="5742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i tenemos siempre presentes las acciones egoístas e injustas de otros,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ncontraremos que es imposible amarlos como Cristo nos ha am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ángulo 1"/>
          <p:cNvSpPr/>
          <p:nvPr/>
        </p:nvSpPr>
        <p:spPr>
          <a:xfrm>
            <a:off x="1116000" y="1873080"/>
            <a:ext cx="69850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Pero si nuestros pensamientos se espacian continuamente en el maravilloso amor y piedad de Cristo por nosotros, manifestaremos el mismo espíritu para con los demá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ángulo 1"/>
          <p:cNvSpPr/>
          <p:nvPr/>
        </p:nvSpPr>
        <p:spPr>
          <a:xfrm>
            <a:off x="1476360" y="2179800"/>
            <a:ext cx="64087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Debemos amarnos y respetarnos mutuamente, no obstante las faltas e imperfecciones que no podemos menos que observa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ángulo 1"/>
          <p:cNvSpPr/>
          <p:nvPr/>
        </p:nvSpPr>
        <p:spPr>
          <a:xfrm>
            <a:off x="1494000" y="2179800"/>
            <a:ext cx="61736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Debemos cultivar la humildad y la desconfianza en nosotros mismos y una paciencia llena de ternura para con las faltas ajen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ángulo 1"/>
          <p:cNvSpPr/>
          <p:nvPr/>
        </p:nvSpPr>
        <p:spPr>
          <a:xfrm>
            <a:off x="1476360" y="2421000"/>
            <a:ext cx="610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to destruye toda clase de egoísmo y nos hace de corazón grande y gener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ángulo 1"/>
          <p:cNvSpPr/>
          <p:nvPr/>
        </p:nvSpPr>
        <p:spPr>
          <a:xfrm>
            <a:off x="1728720" y="1914480"/>
            <a:ext cx="5796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salmista dice: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Confía en Jehová y obra el bien; habita tranquilo en la tierra, y apaciéntate de la verdad"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Salmo 37: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ángulo 1"/>
          <p:cNvSpPr/>
          <p:nvPr/>
        </p:nvSpPr>
        <p:spPr>
          <a:xfrm>
            <a:off x="1547640" y="2333520"/>
            <a:ext cx="5886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Confía en Jehová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Cada día trae sus aflicciones, sus cuidados y perplejid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ángulo 1"/>
          <p:cNvSpPr/>
          <p:nvPr/>
        </p:nvSpPr>
        <p:spPr>
          <a:xfrm>
            <a:off x="1422360" y="2158920"/>
            <a:ext cx="62452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y cuando los encontramos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¡cuán prontos estamos para hablar de ell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ángulo 1"/>
          <p:cNvSpPr/>
          <p:nvPr/>
        </p:nvSpPr>
        <p:spPr>
          <a:xfrm>
            <a:off x="1332000" y="2038320"/>
            <a:ext cx="655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Tantas penas imaginarias intervienen, tantos temores se abrigan, tal peso de ansiedades se manifiesta que cualquiera podría suponer que no tenemos un Salvador poderoso y misericordi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ángulo 1"/>
          <p:cNvSpPr/>
          <p:nvPr/>
        </p:nvSpPr>
        <p:spPr>
          <a:xfrm>
            <a:off x="1763640" y="2133720"/>
            <a:ext cx="567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os cristianos son como porta luces en el camino al ci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ángulo 1"/>
          <p:cNvSpPr/>
          <p:nvPr/>
        </p:nvSpPr>
        <p:spPr>
          <a:xfrm>
            <a:off x="1763640" y="2349360"/>
            <a:ext cx="57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ispuesto a oír todas nuestras peticiones y a ser nuestro protector constante en cada hora de neces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ángulo 1"/>
          <p:cNvSpPr/>
          <p:nvPr/>
        </p:nvSpPr>
        <p:spPr>
          <a:xfrm>
            <a:off x="1638360" y="2320920"/>
            <a:ext cx="588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lgunos temen siempre y toman cuitas prest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ángulo 1"/>
          <p:cNvSpPr/>
          <p:nvPr/>
        </p:nvSpPr>
        <p:spPr>
          <a:xfrm>
            <a:off x="1619280" y="1913040"/>
            <a:ext cx="619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odos los días están rodeados de las prendas del amor de Dios, todos los días gozan de las bondades de su provid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ángulo 1"/>
          <p:cNvSpPr/>
          <p:nvPr/>
        </p:nvSpPr>
        <p:spPr>
          <a:xfrm>
            <a:off x="1565280" y="2414520"/>
            <a:ext cx="610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ero pasan por alto estas bendiciones pres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ángulo 1"/>
          <p:cNvSpPr/>
          <p:nvPr/>
        </p:nvSpPr>
        <p:spPr>
          <a:xfrm>
            <a:off x="1709640" y="1954080"/>
            <a:ext cx="574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us mentes están siempre espaciándose en algo desagradable que temen que ven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ángulo 1"/>
          <p:cNvSpPr/>
          <p:nvPr/>
        </p:nvSpPr>
        <p:spPr>
          <a:xfrm>
            <a:off x="1565280" y="1862280"/>
            <a:ext cx="603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uede ser que realmente existan algunas dificultades que ciegan sus ojos a las muchas bendiciones que demandan grati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ángulo 1"/>
          <p:cNvSpPr/>
          <p:nvPr/>
        </p:nvSpPr>
        <p:spPr>
          <a:xfrm>
            <a:off x="1638360" y="2421000"/>
            <a:ext cx="6173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Las dificultades con que tropiezan, en vez de guiarlos a Dios, los alejan de él, porque despiertan desasosiego y pesa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ángulo 2"/>
          <p:cNvSpPr/>
          <p:nvPr/>
        </p:nvSpPr>
        <p:spPr>
          <a:xfrm>
            <a:off x="1692360" y="2138400"/>
            <a:ext cx="581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¿Hacemos bien en ser así incrédulos? ¿Por qué ser ingratos y desconfiad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ángulo 1"/>
          <p:cNvSpPr/>
          <p:nvPr/>
        </p:nvSpPr>
        <p:spPr>
          <a:xfrm>
            <a:off x="1476360" y="2498760"/>
            <a:ext cx="624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Jesús es nuestro amigo; todo el cielo está interesado en nuestro bienest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ángulo 1"/>
          <p:cNvSpPr/>
          <p:nvPr/>
        </p:nvSpPr>
        <p:spPr>
          <a:xfrm>
            <a:off x="1565280" y="2016000"/>
            <a:ext cx="60310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No debemos permitir que las perplejidades y cuidados cotidianos gasten las fuerzas de nuestro espíritu y oscurezcan nuestro semblant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ángulo 1"/>
          <p:cNvSpPr/>
          <p:nvPr/>
        </p:nvSpPr>
        <p:spPr>
          <a:xfrm>
            <a:off x="1638360" y="2282760"/>
            <a:ext cx="574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ienen que reflejar sobre el mundo la luz de Cristo que brilla sobre el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ángulo 1"/>
          <p:cNvSpPr/>
          <p:nvPr/>
        </p:nvSpPr>
        <p:spPr>
          <a:xfrm>
            <a:off x="1979640" y="2274840"/>
            <a:ext cx="531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 lo hacemos, habrá siempre algo que nos moleste y fati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ángulo 1"/>
          <p:cNvSpPr/>
          <p:nvPr/>
        </p:nvSpPr>
        <p:spPr>
          <a:xfrm>
            <a:off x="1258920" y="2205000"/>
            <a:ext cx="65358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debemos dar entrada a los cuidados que sólo nos gastan y destruyen,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as no nos ayudan a soportar las prueb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ángulo 1"/>
          <p:cNvSpPr/>
          <p:nvPr/>
        </p:nvSpPr>
        <p:spPr>
          <a:xfrm>
            <a:off x="1116000" y="2035080"/>
            <a:ext cx="66960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Podéis estar perplejos en los negocios; vuestra perspectiva puede ser cada día más sombría y podéis estar amenazados de pérdid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ángulo 1"/>
          <p:cNvSpPr/>
          <p:nvPr/>
        </p:nvSpPr>
        <p:spPr>
          <a:xfrm>
            <a:off x="1187280" y="246708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no os descorazonéis; confiad vuestras cargas a Dios y permaneced serenos y tranqui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ángulo 1"/>
          <p:cNvSpPr/>
          <p:nvPr/>
        </p:nvSpPr>
        <p:spPr>
          <a:xfrm>
            <a:off x="1476360" y="2077920"/>
            <a:ext cx="61736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Calibri"/>
              </a:rPr>
              <a:t>Pedid sabiduría para manejar vuestros negocios con discreción y así evitaréis pérdidas y desast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ángulo 1"/>
          <p:cNvSpPr/>
          <p:nvPr/>
        </p:nvSpPr>
        <p:spPr>
          <a:xfrm>
            <a:off x="1332000" y="2354400"/>
            <a:ext cx="624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Haced todo lo que esté de vuestra parte para obtener resultados favor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ángulo 1"/>
          <p:cNvSpPr/>
          <p:nvPr/>
        </p:nvSpPr>
        <p:spPr>
          <a:xfrm>
            <a:off x="1187280" y="2276640"/>
            <a:ext cx="66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Jesús nos ha prometido su ayuda,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pero no sin que hagamos lo que está de nuestra par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ángulo 1"/>
          <p:cNvSpPr/>
          <p:nvPr/>
        </p:nvSpPr>
        <p:spPr>
          <a:xfrm>
            <a:off x="1206360" y="2098800"/>
            <a:ext cx="667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uando, confiando en vuestro Ayudador, hayáis hecho todo lo que podáis, aceptad con gozo los resul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ángulo 1"/>
          <p:cNvSpPr/>
          <p:nvPr/>
        </p:nvSpPr>
        <p:spPr>
          <a:xfrm>
            <a:off x="1908000" y="2170080"/>
            <a:ext cx="531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es la voluntad de Dios que su pueblo sea abrumado por el peso de los cuid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ángulo 1"/>
          <p:cNvSpPr/>
          <p:nvPr/>
        </p:nvSpPr>
        <p:spPr>
          <a:xfrm>
            <a:off x="1800360" y="2170080"/>
            <a:ext cx="550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ero al mismo tiempo no quiere que nos engañ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ángulo 1"/>
          <p:cNvSpPr/>
          <p:nvPr/>
        </p:nvSpPr>
        <p:spPr>
          <a:xfrm>
            <a:off x="1547640" y="2128680"/>
            <a:ext cx="61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Su vida y su carácter deben ser tales que por ellos adquieran otros una idea justa de Cristo y de su serv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ángulo 1"/>
          <p:cNvSpPr/>
          <p:nvPr/>
        </p:nvSpPr>
        <p:spPr>
          <a:xfrm>
            <a:off x="1638360" y="2097000"/>
            <a:ext cx="588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no nos dice: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No temáis; no hay peligro en vuestro camino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ángulo 1"/>
          <p:cNvSpPr/>
          <p:nvPr/>
        </p:nvSpPr>
        <p:spPr>
          <a:xfrm>
            <a:off x="1494000" y="2282760"/>
            <a:ext cx="631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sabe que hay pruebas y peligros y nos lo ha manifestado abierta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ángulo 1"/>
          <p:cNvSpPr/>
          <p:nvPr/>
        </p:nvSpPr>
        <p:spPr>
          <a:xfrm>
            <a:off x="1619280" y="1989000"/>
            <a:ext cx="595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no ofrece a su pueblo quitarlo de en medio de este mundo de pecado y maldad, pero le presenta un refugio que nunca fa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ángulo 1"/>
          <p:cNvSpPr/>
          <p:nvPr/>
        </p:nvSpPr>
        <p:spPr>
          <a:xfrm>
            <a:off x="1565280" y="1903320"/>
            <a:ext cx="603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u oración por sus discípulos fue: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No ruego que los quites del mundo, sino que los guardes del mal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ángulo 1"/>
          <p:cNvSpPr/>
          <p:nvPr/>
        </p:nvSpPr>
        <p:spPr>
          <a:xfrm>
            <a:off x="1403280" y="1773360"/>
            <a:ext cx="6337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En el mundo ­dice­ tendréis tribulación; pero tened buen ánimo; yo he vencido al mundo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San Juan 17: 15; 16: 3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ángulo 1"/>
          <p:cNvSpPr/>
          <p:nvPr/>
        </p:nvSpPr>
        <p:spPr>
          <a:xfrm>
            <a:off x="1349280" y="2179800"/>
            <a:ext cx="63914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En el Sermón del Monte, Cristo dio a sus discípulos preciosas lecciones en cuanto a la confianza que debe tenerse en Di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ángulo 1"/>
          <p:cNvSpPr/>
          <p:nvPr/>
        </p:nvSpPr>
        <p:spPr>
          <a:xfrm>
            <a:off x="1349280" y="1989000"/>
            <a:ext cx="653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as lecciones tenían como fin consolar a los hijos de Dios durante todos los sig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ángulo 1"/>
          <p:cNvSpPr/>
          <p:nvPr/>
        </p:nvSpPr>
        <p:spPr>
          <a:xfrm>
            <a:off x="1835280" y="2421000"/>
            <a:ext cx="559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han llegado a nuestra época llenas de instrucción y consue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ángulo 2"/>
          <p:cNvSpPr/>
          <p:nvPr/>
        </p:nvSpPr>
        <p:spPr>
          <a:xfrm>
            <a:off x="1042920" y="1996920"/>
            <a:ext cx="70581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El Salvador llamó la atención de sus discípulos a cómo las aves del cielo entonan sus dulces cantos de alabanza sin estar abrumadas por los cuidados de la vida</a:t>
            </a:r>
            <a:r>
              <a:rPr b="0" lang="es-ES" sz="3400" spc="-1" strike="noStrike">
                <a:solidFill>
                  <a:srgbClr val="000000"/>
                </a:solidFill>
                <a:latin typeface="Calibri"/>
              </a:rPr>
              <a:t>, a pesar de que "no siembran, ni siegan"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ángulo 1"/>
          <p:cNvSpPr/>
          <p:nvPr/>
        </p:nvSpPr>
        <p:spPr>
          <a:xfrm>
            <a:off x="2070000" y="2170080"/>
            <a:ext cx="523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sin embargo, el gran Padre celestial las alime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ángulo 1"/>
          <p:cNvSpPr/>
          <p:nvPr/>
        </p:nvSpPr>
        <p:spPr>
          <a:xfrm>
            <a:off x="1349280" y="2276640"/>
            <a:ext cx="63183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Si representamos verdaderamente a Cristo, haremos que su servicio parezca atractivo, como es en realida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ángulo 1"/>
          <p:cNvSpPr/>
          <p:nvPr/>
        </p:nvSpPr>
        <p:spPr>
          <a:xfrm>
            <a:off x="1638360" y="2190600"/>
            <a:ext cx="58132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Salvador pregunta: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¿No valéis vosotros mucho más que ellas?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Mateo 6: 2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ángulo 1"/>
          <p:cNvSpPr/>
          <p:nvPr/>
        </p:nvSpPr>
        <p:spPr>
          <a:xfrm>
            <a:off x="1332000" y="2004840"/>
            <a:ext cx="66247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Calibri"/>
              </a:rPr>
              <a:t>El gran Dios, que alimenta a los hombres y a las bestias, extiende su mano para alimentar a todas sus criatura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ángulo 1"/>
          <p:cNvSpPr/>
          <p:nvPr/>
        </p:nvSpPr>
        <p:spPr>
          <a:xfrm>
            <a:off x="1835280" y="2421000"/>
            <a:ext cx="552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s aves del cielo no son tan insignificantes que no las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ángulo 1"/>
          <p:cNvSpPr/>
          <p:nvPr/>
        </p:nvSpPr>
        <p:spPr>
          <a:xfrm>
            <a:off x="1692360" y="2133720"/>
            <a:ext cx="5759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no toma el alimento y se lo da en el pico,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mas hace provisión para sus necesi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ángulo 1"/>
          <p:cNvSpPr/>
          <p:nvPr/>
        </p:nvSpPr>
        <p:spPr>
          <a:xfrm>
            <a:off x="1854360" y="2097000"/>
            <a:ext cx="567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eben juntar el grano que él ha derramado para el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ángulo 1"/>
          <p:cNvSpPr/>
          <p:nvPr/>
        </p:nvSpPr>
        <p:spPr>
          <a:xfrm>
            <a:off x="1692360" y="1849320"/>
            <a:ext cx="581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eben preparar el material para sus niditos y alimentar a sus pollue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ángulo 1"/>
          <p:cNvSpPr/>
          <p:nvPr/>
        </p:nvSpPr>
        <p:spPr>
          <a:xfrm>
            <a:off x="1422360" y="2230560"/>
            <a:ext cx="65343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las van cantando a su trabajo porque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vuestro Padre celestial las alimenta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ángulo 1"/>
          <p:cNvSpPr/>
          <p:nvPr/>
        </p:nvSpPr>
        <p:spPr>
          <a:xfrm>
            <a:off x="1781280" y="2414520"/>
            <a:ext cx="559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"¿no valéis vosotros mucho más que ellas?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ángulo 1"/>
          <p:cNvSpPr/>
          <p:nvPr/>
        </p:nvSpPr>
        <p:spPr>
          <a:xfrm>
            <a:off x="1512720" y="2027160"/>
            <a:ext cx="6299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¿No sois vosotros, como adoradores inteligentes y espirituales, de mucho más valor que las aves del cie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ángulo 1"/>
          <p:cNvSpPr/>
          <p:nvPr/>
        </p:nvSpPr>
        <p:spPr>
          <a:xfrm>
            <a:off x="1206360" y="2060640"/>
            <a:ext cx="67503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¿No suplirá nuestras necesidades el Autor de nuestro ser, el Conservador de nuestra existencia, el que nos formó a su propia imagen divina, si tan sólo confiamos en Él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ángulo 1"/>
          <p:cNvSpPr/>
          <p:nvPr/>
        </p:nvSpPr>
        <p:spPr>
          <a:xfrm>
            <a:off x="1116000" y="2060640"/>
            <a:ext cx="6985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os cristianos que llenan su alma de amargura y tristeza, murmuraciones y quejas, están representando ante otros falsamente a Dios y la vida crist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ángulo 2"/>
          <p:cNvSpPr/>
          <p:nvPr/>
        </p:nvSpPr>
        <p:spPr>
          <a:xfrm>
            <a:off x="1116000" y="2060640"/>
            <a:ext cx="71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risto presentaba a sus discípulos las flores del campo, que crecen en rica profusión y brillan con la sencilla hermosura que el Padre celestial les ha dado, como una expresión de su amor hacia el ho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ángulo 1"/>
          <p:cNvSpPr/>
          <p:nvPr/>
        </p:nvSpPr>
        <p:spPr>
          <a:xfrm>
            <a:off x="1835280" y="2017800"/>
            <a:ext cx="55990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l decía: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Considerad los lirios del campo, cómo crecen"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Mateo 6: 2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ángulo 1"/>
          <p:cNvSpPr/>
          <p:nvPr/>
        </p:nvSpPr>
        <p:spPr>
          <a:xfrm>
            <a:off x="1692360" y="2273400"/>
            <a:ext cx="602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a belleza y la sencillez de estas flores naturales sobrepujan en excelencia, por mucho, a la gloria de Salom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ángulo 1"/>
          <p:cNvSpPr/>
          <p:nvPr/>
        </p:nvSpPr>
        <p:spPr>
          <a:xfrm>
            <a:off x="1258920" y="2205000"/>
            <a:ext cx="66070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El atavío más esplendoroso producido por la habilidad del arte no puede compararse con la gracia natural y la belleza radiante de las flores creadas por Di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ángulo 1"/>
          <p:cNvSpPr/>
          <p:nvPr/>
        </p:nvSpPr>
        <p:spPr>
          <a:xfrm>
            <a:off x="1258920" y="2089080"/>
            <a:ext cx="655308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Jesús dice: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Y  si Dios viste así a la hierba del campo que hoy es, y mañana es echada en el horno, ¿cuánto más a vosotros, hombres de poca fe?"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Mateo 6: 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ángulo 1"/>
          <p:cNvSpPr/>
          <p:nvPr/>
        </p:nvSpPr>
        <p:spPr>
          <a:xfrm>
            <a:off x="1619280" y="2098800"/>
            <a:ext cx="60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 Dios, el Artista divino, da a las flores, que perecen en un día, sus delicados y variados col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ángulo 1"/>
          <p:cNvSpPr/>
          <p:nvPr/>
        </p:nvSpPr>
        <p:spPr>
          <a:xfrm>
            <a:off x="1476360" y="2354400"/>
            <a:ext cx="617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¿cuánto mayor cuidado no tendrá por los que ha creado a su propia imag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ángulo 1"/>
          <p:cNvSpPr/>
          <p:nvPr/>
        </p:nvSpPr>
        <p:spPr>
          <a:xfrm>
            <a:off x="1781280" y="2344680"/>
            <a:ext cx="567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sta lección de Cristo es un reproche por la ansiedad, las perplejidades y dudas del corazón sin 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ángulo 1"/>
          <p:cNvSpPr/>
          <p:nvPr/>
        </p:nvSpPr>
        <p:spPr>
          <a:xfrm>
            <a:off x="1042920" y="2170080"/>
            <a:ext cx="712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Señor quiere que todos sus hijos e hijas sean felices, llenos de paz, obedie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ángulo 1"/>
          <p:cNvSpPr/>
          <p:nvPr/>
        </p:nvSpPr>
        <p:spPr>
          <a:xfrm>
            <a:off x="1349280" y="2057400"/>
            <a:ext cx="64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Jesús dice: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Mi paz os doy; no según da el mundo, yo os la doy: no se turbe vuestro corazón, ni se acobarde"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(San Juan 14: 2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ángulo 1"/>
          <p:cNvSpPr/>
          <p:nvPr/>
        </p:nvSpPr>
        <p:spPr>
          <a:xfrm>
            <a:off x="1692360" y="2282760"/>
            <a:ext cx="574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Hacen creer que Dios no se complace en que sus hijos sean fel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ángulo 1"/>
          <p:cNvSpPr/>
          <p:nvPr/>
        </p:nvSpPr>
        <p:spPr>
          <a:xfrm>
            <a:off x="1692360" y="1989000"/>
            <a:ext cx="5904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Estas cosas os he dicho, para que quede mi gozo en vosotros, y vuestro gozo sea completo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San Juan 15: 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ángulo 1"/>
          <p:cNvSpPr/>
          <p:nvPr/>
        </p:nvSpPr>
        <p:spPr>
          <a:xfrm>
            <a:off x="1027080" y="2262240"/>
            <a:ext cx="6858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La felicidad que se procura por motivos egoístas, fuera de la senda del deber, es desequilibrada, espasmódica y transitori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ángulo 1"/>
          <p:cNvSpPr/>
          <p:nvPr/>
        </p:nvSpPr>
        <p:spPr>
          <a:xfrm>
            <a:off x="1925640" y="2090880"/>
            <a:ext cx="538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asa y deja el alma vacía y triste; mas en el servicio de Dios hay gozo y satisfa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ángulo 1"/>
          <p:cNvSpPr/>
          <p:nvPr/>
        </p:nvSpPr>
        <p:spPr>
          <a:xfrm>
            <a:off x="1547640" y="2160720"/>
            <a:ext cx="5977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ios no abandona al cristiano en caminos inciertos;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no lo abandona a pesares vanos y contratiemp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ángulo 2"/>
          <p:cNvSpPr/>
          <p:nvPr/>
        </p:nvSpPr>
        <p:spPr>
          <a:xfrm>
            <a:off x="1763640" y="2027160"/>
            <a:ext cx="576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 no tenemos los placeres de esta vida, podemos aun gozarnos mirando a la vida venid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ángulo 1"/>
          <p:cNvSpPr/>
          <p:nvPr/>
        </p:nvSpPr>
        <p:spPr>
          <a:xfrm>
            <a:off x="1854360" y="2027160"/>
            <a:ext cx="552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ero aún aquí los cristianos pueden tener el gozo de la comunión con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ángulo 1"/>
          <p:cNvSpPr/>
          <p:nvPr/>
        </p:nvSpPr>
        <p:spPr>
          <a:xfrm>
            <a:off x="1638360" y="2282760"/>
            <a:ext cx="581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ueden tener la luz de su amor, el perpetuo consuelo de su pres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ángulo 1"/>
          <p:cNvSpPr/>
          <p:nvPr/>
        </p:nvSpPr>
        <p:spPr>
          <a:xfrm>
            <a:off x="1187280" y="2303640"/>
            <a:ext cx="6840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ada paso de la vida puede acercarnos más a Jesús, puede darnos una experiencia más profunda de su amor y acercarnos más al bendito hogar de p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ángulo 1"/>
          <p:cNvSpPr/>
          <p:nvPr/>
        </p:nvSpPr>
        <p:spPr>
          <a:xfrm>
            <a:off x="2286000" y="22748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perdáis pues vuestra confianza, sino tened firme seguridad, más firme que nunca 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ángulo 1"/>
          <p:cNvSpPr/>
          <p:nvPr/>
        </p:nvSpPr>
        <p:spPr>
          <a:xfrm>
            <a:off x="1403280" y="1989000"/>
            <a:ext cx="62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o perdáis pues vuestra confianza, sino tened firme seguridad, más firme que nunca 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ángulo 1"/>
          <p:cNvSpPr/>
          <p:nvPr/>
        </p:nvSpPr>
        <p:spPr>
          <a:xfrm>
            <a:off x="1763640" y="2421000"/>
            <a:ext cx="545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en esto dan falso testimonio contra nuestro Padre celest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ángulo 1"/>
          <p:cNvSpPr/>
          <p:nvPr/>
        </p:nvSpPr>
        <p:spPr>
          <a:xfrm>
            <a:off x="1278000" y="1916280"/>
            <a:ext cx="65340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¡Hasta aquí nos ha ayudado Jehová!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1 Samuel 7: 1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y nos ayudará hasta el f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ángulo 1"/>
          <p:cNvSpPr/>
          <p:nvPr/>
        </p:nvSpPr>
        <p:spPr>
          <a:xfrm>
            <a:off x="1042920" y="185112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iremos los monumentos conmemorativos de lo que Dios ha hecho para confortarnos y salvarnos de la mano del destru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ángulo 1"/>
          <p:cNvSpPr/>
          <p:nvPr/>
        </p:nvSpPr>
        <p:spPr>
          <a:xfrm>
            <a:off x="1854360" y="1954080"/>
            <a:ext cx="567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engamos siempre presentes todas las tiernas misericordias que Dios nos ha most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Rectángulo 1"/>
          <p:cNvSpPr/>
          <p:nvPr/>
        </p:nvSpPr>
        <p:spPr>
          <a:xfrm>
            <a:off x="1476360" y="1677960"/>
            <a:ext cx="64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as lágrimas que ha enjugado, las penas que ha quitado, las ansiedades que ha alejado, los temores que ha disipado, las necesidades que ha suplido, las bendiciones que ha derram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ángulo 1"/>
          <p:cNvSpPr/>
          <p:nvPr/>
        </p:nvSpPr>
        <p:spPr>
          <a:xfrm>
            <a:off x="1403280" y="2349360"/>
            <a:ext cx="631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ortificándonos así a nosotros mismos, para todo lo que está delante de nosotros en el resto de nuestra peregrin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ángulo 1"/>
          <p:cNvSpPr/>
          <p:nvPr/>
        </p:nvSpPr>
        <p:spPr>
          <a:xfrm>
            <a:off x="1638360" y="1882800"/>
            <a:ext cx="59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podemos menos que prever nuevas perplejidades en el conflicto venid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ángulo 1"/>
          <p:cNvSpPr/>
          <p:nvPr/>
        </p:nvSpPr>
        <p:spPr>
          <a:xfrm>
            <a:off x="1781280" y="1933560"/>
            <a:ext cx="57434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ero podemos mirar hacia lo pasado, tanto como hacia lo futuro, y decir: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¡Hasta aquí nos ha ayudado Jehová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ángulo 1"/>
          <p:cNvSpPr/>
          <p:nvPr/>
        </p:nvSpPr>
        <p:spPr>
          <a:xfrm>
            <a:off x="1944720" y="2108160"/>
            <a:ext cx="53640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Según tus días, serán tus fuerzas"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Deuteronomio 33: 2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ángulo 1"/>
          <p:cNvSpPr/>
          <p:nvPr/>
        </p:nvSpPr>
        <p:spPr>
          <a:xfrm>
            <a:off x="1835280" y="2025720"/>
            <a:ext cx="552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prueba no excederá a la fuerza que se nos dé para soportar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ángulo 1"/>
          <p:cNvSpPr/>
          <p:nvPr/>
        </p:nvSpPr>
        <p:spPr>
          <a:xfrm>
            <a:off x="1403280" y="2089080"/>
            <a:ext cx="63183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Así que sigamos con nuestro trabajo dondequiera lo hallemos, sabiendo que para cualquier cosa que venga, Él nos dará fuerza proporcionada a la prueb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ángulo 1"/>
          <p:cNvSpPr/>
          <p:nvPr/>
        </p:nvSpPr>
        <p:spPr>
          <a:xfrm>
            <a:off x="1619280" y="2133720"/>
            <a:ext cx="581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atanás triunfa cuando puede inducir a los hijos de Dios a la incredulidad y al desal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ángulo 1"/>
          <p:cNvSpPr/>
          <p:nvPr/>
        </p:nvSpPr>
        <p:spPr>
          <a:xfrm>
            <a:off x="1655640" y="2170080"/>
            <a:ext cx="601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luego las puertas del cielo se abrirán para recibir a los hijos de 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ángulo 1"/>
          <p:cNvSpPr/>
          <p:nvPr/>
        </p:nvSpPr>
        <p:spPr>
          <a:xfrm>
            <a:off x="1835280" y="1924200"/>
            <a:ext cx="545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de los labios del Rey de gloria resonará en sus oídos, como la más rica mús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Rectángulo 1"/>
          <p:cNvSpPr/>
          <p:nvPr/>
        </p:nvSpPr>
        <p:spPr>
          <a:xfrm>
            <a:off x="1258920" y="1893960"/>
            <a:ext cx="6697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la bendición: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¡Venid, benditos de mi Padre, poseed el reino destinado para vosotros desde la fundación del mundo!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Mateo 25: 34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ángulo 1"/>
          <p:cNvSpPr/>
          <p:nvPr/>
        </p:nvSpPr>
        <p:spPr>
          <a:xfrm>
            <a:off x="1619280" y="1989000"/>
            <a:ext cx="590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ntonces los redimidos serán recibidos con gozo en el lugar que Jesús les está prepara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ángulo 1"/>
          <p:cNvSpPr/>
          <p:nvPr/>
        </p:nvSpPr>
        <p:spPr>
          <a:xfrm>
            <a:off x="1638360" y="2098800"/>
            <a:ext cx="581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llí su compañía no será la de los viles de la tierra, mentirosos, idólatras, impuros e incrédu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ángulo 1"/>
          <p:cNvSpPr/>
          <p:nvPr/>
        </p:nvSpPr>
        <p:spPr>
          <a:xfrm>
            <a:off x="1187280" y="2276640"/>
            <a:ext cx="66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no la de los que hayan vencido a Satanás y que por la gracia divina hayan adquirido caracteres perfe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ángulo 1"/>
          <p:cNvSpPr/>
          <p:nvPr/>
        </p:nvSpPr>
        <p:spPr>
          <a:xfrm>
            <a:off x="1692360" y="1989000"/>
            <a:ext cx="579600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Calibri"/>
              </a:rPr>
              <a:t>Toda tendencia pecaminosa, toda imperfección que los aflige aquí, habrá sido quitada por la sangre de Crist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ángulo 1"/>
          <p:cNvSpPr/>
          <p:nvPr/>
        </p:nvSpPr>
        <p:spPr>
          <a:xfrm>
            <a:off x="1908000" y="2276640"/>
            <a:ext cx="552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se les concede la excelencia y brillantez de su gloria, que excede en mucho a la del s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ángulo 1"/>
          <p:cNvSpPr/>
          <p:nvPr/>
        </p:nvSpPr>
        <p:spPr>
          <a:xfrm>
            <a:off x="1692360" y="1862280"/>
            <a:ext cx="595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Y la belleza moral, la perfección de su carácter resplandecen con excelencia mucho mayor que este resplandor exter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ángulo 1"/>
          <p:cNvSpPr/>
          <p:nvPr/>
        </p:nvSpPr>
        <p:spPr>
          <a:xfrm>
            <a:off x="1638360" y="1984320"/>
            <a:ext cx="588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stán sin mancha delante del trono de Dios y participan de la dignidad y de los privilegios de los áng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ángulo 1"/>
          <p:cNvSpPr/>
          <p:nvPr/>
        </p:nvSpPr>
        <p:spPr>
          <a:xfrm>
            <a:off x="1206360" y="2027160"/>
            <a:ext cx="675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e regocija cuando nos ve desconfiar de Dios, dudando de su buena voluntad y de su poder para salvar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ángulo 1"/>
          <p:cNvSpPr/>
          <p:nvPr/>
        </p:nvSpPr>
        <p:spPr>
          <a:xfrm>
            <a:off x="1494000" y="1905120"/>
            <a:ext cx="61023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n vista de la herencia gloriosa que puede ser suya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¿qué rescate dará el hombre por su alma?"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Mateo 16: 2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Rectángulo 1"/>
          <p:cNvSpPr/>
          <p:nvPr/>
        </p:nvSpPr>
        <p:spPr>
          <a:xfrm>
            <a:off x="1584360" y="1914480"/>
            <a:ext cx="6156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uede ser pobre; con todo, posee en sí mismo una riqueza y dignidad que el mundo jamás podría haberle d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ángulo 1"/>
          <p:cNvSpPr/>
          <p:nvPr/>
        </p:nvSpPr>
        <p:spPr>
          <a:xfrm>
            <a:off x="1638360" y="1944720"/>
            <a:ext cx="59580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000000"/>
                </a:solidFill>
                <a:latin typeface="Calibri"/>
              </a:rPr>
              <a:t>El alma redimida y limpiada de pecado, con todas sus nobles facultades dedicadas al servicio de Dio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ángulo 1"/>
          <p:cNvSpPr/>
          <p:nvPr/>
        </p:nvSpPr>
        <p:spPr>
          <a:xfrm>
            <a:off x="1494000" y="1989000"/>
            <a:ext cx="610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 de un valor incomparable; y hay gozo en el cielo delante de Dios y de los santos ángeles por cada alma redim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Rectángulo 1"/>
          <p:cNvSpPr/>
          <p:nvPr/>
        </p:nvSpPr>
        <p:spPr>
          <a:xfrm>
            <a:off x="1908000" y="2313000"/>
            <a:ext cx="552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Gozo que se expresa con cánticos de santo triu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ángulo 2"/>
          <p:cNvSpPr/>
          <p:nvPr/>
        </p:nvSpPr>
        <p:spPr>
          <a:xfrm>
            <a:off x="1403280" y="2200320"/>
            <a:ext cx="639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os hijos de Dios están llamados a ser representantes de Cristo y a mostrar siempre la bondad y la misericordia del Señ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ángulo 1"/>
          <p:cNvSpPr/>
          <p:nvPr/>
        </p:nvSpPr>
        <p:spPr>
          <a:xfrm>
            <a:off x="1908000" y="2027160"/>
            <a:ext cx="531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e agrada hacernos sentir que el Señor nos hará daño por sus provid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ángulo 1"/>
          <p:cNvSpPr/>
          <p:nvPr/>
        </p:nvSpPr>
        <p:spPr>
          <a:xfrm>
            <a:off x="1763640" y="1811160"/>
            <a:ext cx="588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 la obra de Satanás representar al Señor como falto de compasión y pie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ángulo 1"/>
          <p:cNvSpPr/>
          <p:nvPr/>
        </p:nvSpPr>
        <p:spPr>
          <a:xfrm>
            <a:off x="1494000" y="2205000"/>
            <a:ext cx="617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ergiversa la verdad respecto a Él. Llena la imaginación de ideas falsas tocante a D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ángulo 1"/>
          <p:cNvSpPr/>
          <p:nvPr/>
        </p:nvSpPr>
        <p:spPr>
          <a:xfrm>
            <a:off x="1619280" y="2492280"/>
            <a:ext cx="588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en vez de espaciarnos en la verdad con respecto a nuestro Padre celest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ángulo 1"/>
          <p:cNvSpPr/>
          <p:nvPr/>
        </p:nvSpPr>
        <p:spPr>
          <a:xfrm>
            <a:off x="1512720" y="2282760"/>
            <a:ext cx="6299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muchísimas veces fijamos la mente en las falsas representaciones de Satan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ángulo 1"/>
          <p:cNvSpPr/>
          <p:nvPr/>
        </p:nvSpPr>
        <p:spPr>
          <a:xfrm>
            <a:off x="1619280" y="1989000"/>
            <a:ext cx="581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deshonramos a Dios desconfiando de Él y murmurando contra 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ángulo 1"/>
          <p:cNvSpPr/>
          <p:nvPr/>
        </p:nvSpPr>
        <p:spPr>
          <a:xfrm>
            <a:off x="1476360" y="2209680"/>
            <a:ext cx="588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atanás siempre procura presentar la vida religiosa como una vida de tiniebl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ángulo 1"/>
          <p:cNvSpPr/>
          <p:nvPr/>
        </p:nvSpPr>
        <p:spPr>
          <a:xfrm>
            <a:off x="1547640" y="2160720"/>
            <a:ext cx="61200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Desea hacerla aparecer penosa y difícil; y cuando el cristiano presenta en su vida la religión bajo este aspecto, secunda la falsedad de Sataná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ángulo 1"/>
          <p:cNvSpPr/>
          <p:nvPr/>
        </p:nvSpPr>
        <p:spPr>
          <a:xfrm>
            <a:off x="1278000" y="2089080"/>
            <a:ext cx="63896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Muchos al recorrer el camino de la vida, fijan sus ojos en sus errores, fracasos y desengaños, y sus corazones se llenan de dolor y desalien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ángulo 1"/>
          <p:cNvSpPr/>
          <p:nvPr/>
        </p:nvSpPr>
        <p:spPr>
          <a:xfrm>
            <a:off x="1187280" y="1882800"/>
            <a:ext cx="675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Mientras estaba yo en Europa, una hermana que había estado haciendo esto y que se hallaba profundamente apenada, me escribió pidiéndome algunos consejos que la anima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ángulo 1"/>
          <p:cNvSpPr/>
          <p:nvPr/>
        </p:nvSpPr>
        <p:spPr>
          <a:xfrm>
            <a:off x="1476360" y="2089080"/>
            <a:ext cx="624528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Como Jesús nos reveló el verdadero carácter del Padre, así tenemos que revelar a Cristo a un mundo que no conoce su ternura y piadoso am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ángulo 1"/>
          <p:cNvSpPr/>
          <p:nvPr/>
        </p:nvSpPr>
        <p:spPr>
          <a:xfrm>
            <a:off x="1638360" y="2274840"/>
            <a:ext cx="617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a noche que siguió a la lectura de su carta, soñé que estaba yo en un jardín y que uno, al parecer dueño del jardín, me conducía por los caminos del m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ángulo 1"/>
          <p:cNvSpPr/>
          <p:nvPr/>
        </p:nvSpPr>
        <p:spPr>
          <a:xfrm>
            <a:off x="1295280" y="2200320"/>
            <a:ext cx="65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Yo estaba recogiendo flores y gozando de su fragancia, cuando esta hermana, que había estado caminando a mi l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ángulo 1"/>
          <p:cNvSpPr/>
          <p:nvPr/>
        </p:nvSpPr>
        <p:spPr>
          <a:xfrm>
            <a:off x="1692360" y="2282760"/>
            <a:ext cx="574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me llamó la atención a algunos feos zarzales que le estorbaban el p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ángulo 1"/>
          <p:cNvSpPr/>
          <p:nvPr/>
        </p:nvSpPr>
        <p:spPr>
          <a:xfrm>
            <a:off x="1908000" y="2486160"/>
            <a:ext cx="545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Allí estaba ella afligida y llena de p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ángulo 1"/>
          <p:cNvSpPr/>
          <p:nvPr/>
        </p:nvSpPr>
        <p:spPr>
          <a:xfrm>
            <a:off x="1403280" y="2220840"/>
            <a:ext cx="658836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o iba por el camino siguiendo al guía, sino que caminaba entre espinas y abrojos.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"¡Oh!"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urmuró ella,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"¿no es una lástima que este hermoso jardín esté echado a perder por las espinas?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ángulo 2"/>
          <p:cNvSpPr/>
          <p:nvPr/>
        </p:nvSpPr>
        <p:spPr>
          <a:xfrm>
            <a:off x="1258920" y="1832040"/>
            <a:ext cx="65358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ntonces el que nos guiaba dijo: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No hagáis caso de las espinas, porque solamente os molestarán. Cortad las rosas, los lirios y los clavele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ángulo 1"/>
          <p:cNvSpPr/>
          <p:nvPr/>
        </p:nvSpPr>
        <p:spPr>
          <a:xfrm>
            <a:off x="1709640" y="2090880"/>
            <a:ext cx="574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No ha habido en vuestra experiencia algunas horas felic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ángulo 1"/>
          <p:cNvSpPr/>
          <p:nvPr/>
        </p:nvSpPr>
        <p:spPr>
          <a:xfrm>
            <a:off x="1042920" y="2349360"/>
            <a:ext cx="6858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¿No habéis tenido algunos momentos preciosos en que vuestro corazón ha palpitado de gozo respondiendo al Espíritu de Dios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ángulo 1"/>
          <p:cNvSpPr/>
          <p:nvPr/>
        </p:nvSpPr>
        <p:spPr>
          <a:xfrm>
            <a:off x="1133640" y="2252520"/>
            <a:ext cx="67514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¿No habéis tenido algunos momentos preciosos en que vuestro corazón ha palpitado de gozo respondiendo al Espíritu de Dios?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ángulo 1"/>
          <p:cNvSpPr/>
          <p:nvPr/>
        </p:nvSpPr>
        <p:spPr>
          <a:xfrm>
            <a:off x="1476360" y="1758960"/>
            <a:ext cx="6083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Cuando abrís el libro de vuestra experiencia pasada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no encontráis algunas páginas agradabl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ángulo 1"/>
          <p:cNvSpPr/>
          <p:nvPr/>
        </p:nvSpPr>
        <p:spPr>
          <a:xfrm>
            <a:off x="1116000" y="206064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"De la manera que tú me enviaste a mí al mundo -decía Jesús-, así también yo los he enviado a ellos al mundo". "Yo en ellos, y tú en mí,... para que conozca el mundo que tú me enviaste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San Juan 17: 18, 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ángulo 1"/>
          <p:cNvSpPr/>
          <p:nvPr/>
        </p:nvSpPr>
        <p:spPr>
          <a:xfrm>
            <a:off x="1476360" y="2027160"/>
            <a:ext cx="6227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¿No son las promesas de Dios fragantes flores que crecen a cada lado de vuestro cami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ángulo 1"/>
          <p:cNvSpPr/>
          <p:nvPr/>
        </p:nvSpPr>
        <p:spPr>
          <a:xfrm>
            <a:off x="1709640" y="2354400"/>
            <a:ext cx="552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¿No permitiréis que su belleza y dulzura llenen vuestro corazón de goz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ángulo 2"/>
          <p:cNvSpPr/>
          <p:nvPr/>
        </p:nvSpPr>
        <p:spPr>
          <a:xfrm>
            <a:off x="1763640" y="1952640"/>
            <a:ext cx="567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s espinas y abrojos únicamente os herirán y causarán d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ángulo 1"/>
          <p:cNvSpPr/>
          <p:nvPr/>
        </p:nvSpPr>
        <p:spPr>
          <a:xfrm>
            <a:off x="1116000" y="1844640"/>
            <a:ext cx="667872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y si vosotros recogéis solamente estas cosas y las presentáis a otros,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¿no estáis, además de menospreciar la bondad de Dios, impidiendo que los demás anden en el camino de la vid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ángulo 1"/>
          <p:cNvSpPr/>
          <p:nvPr/>
        </p:nvSpPr>
        <p:spPr>
          <a:xfrm>
            <a:off x="1116000" y="2220840"/>
            <a:ext cx="676908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No es bueno reunir todos los recuerdos desagradables de la vida pasada, sus iniquidades y desengaños,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ablar de estos recuerdos y llorarlos hasta estar abrumados de desal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ángulo 1"/>
          <p:cNvSpPr/>
          <p:nvPr/>
        </p:nvSpPr>
        <p:spPr>
          <a:xfrm>
            <a:off x="2303640" y="2097000"/>
            <a:ext cx="45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hombre desalentado está lleno de tinieb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ángulo 1"/>
          <p:cNvSpPr/>
          <p:nvPr/>
        </p:nvSpPr>
        <p:spPr>
          <a:xfrm>
            <a:off x="1512720" y="2368440"/>
            <a:ext cx="61549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echa fuera de su propio corazón la luz divina y proyecta sombra en el camino de los otr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ángulo 1"/>
          <p:cNvSpPr/>
          <p:nvPr/>
        </p:nvSpPr>
        <p:spPr>
          <a:xfrm>
            <a:off x="1835280" y="2282760"/>
            <a:ext cx="538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Gracias a Dios que nos ha presentado hermosísimos cuad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ángulo 1"/>
          <p:cNvSpPr/>
          <p:nvPr/>
        </p:nvSpPr>
        <p:spPr>
          <a:xfrm>
            <a:off x="1116000" y="2027160"/>
            <a:ext cx="675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Reunamos las pruebas benditas de su amor y tengámoslas siempre pres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ángulo 1"/>
          <p:cNvSpPr/>
          <p:nvPr/>
        </p:nvSpPr>
        <p:spPr>
          <a:xfrm>
            <a:off x="1422360" y="2133720"/>
            <a:ext cx="631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Hijo de Dios que deja el trono de su Padre y reviste su divinidad con la humanidad para poder rescatar al hombre del poder de Sataná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ángulo 1"/>
          <p:cNvSpPr/>
          <p:nvPr/>
        </p:nvSpPr>
        <p:spPr>
          <a:xfrm>
            <a:off x="1258920" y="2201760"/>
            <a:ext cx="66978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apóstol Pablo dice a los discípulos de Jesús: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Sois manifiestamente una epístola de Cristo", "conocida y leída de todos los hombres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2 Corintios 3: 3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ángulo 1"/>
          <p:cNvSpPr/>
          <p:nvPr/>
        </p:nvSpPr>
        <p:spPr>
          <a:xfrm>
            <a:off x="1295280" y="2374920"/>
            <a:ext cx="644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u triunfo en nuestro favor, que abre el cielo a los pecadores y revela a la vista humana la morada donde la Divinidad descubre su gl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ángulo 1"/>
          <p:cNvSpPr/>
          <p:nvPr/>
        </p:nvSpPr>
        <p:spPr>
          <a:xfrm>
            <a:off x="1116000" y="2252520"/>
            <a:ext cx="68407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la raza caída, levantada de lo profundo de la ruina en que Satanás la había sumergido, puesta de nuevo en relación con el Dios infini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ángulo 1"/>
          <p:cNvSpPr/>
          <p:nvPr/>
        </p:nvSpPr>
        <p:spPr>
          <a:xfrm>
            <a:off x="1476360" y="2090880"/>
            <a:ext cx="62452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vestida de la justicia de Cristo y exaltada hasta su trono después de sufrir la prueba divina por la fe en nuestro Redento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ángulo 1"/>
          <p:cNvSpPr/>
          <p:nvPr/>
        </p:nvSpPr>
        <p:spPr>
          <a:xfrm>
            <a:off x="1854360" y="2349360"/>
            <a:ext cx="531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ales son las cosas que Dios quiere que contemplem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ángulo 1"/>
          <p:cNvSpPr/>
          <p:nvPr/>
        </p:nvSpPr>
        <p:spPr>
          <a:xfrm>
            <a:off x="1476360" y="2158920"/>
            <a:ext cx="602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Cuando parece que dudamos del amor de Dios y que desconfiamos de sus promesas, lo deshonramos y contristamos su Santo Espír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ángulo 1"/>
          <p:cNvSpPr/>
          <p:nvPr/>
        </p:nvSpPr>
        <p:spPr>
          <a:xfrm>
            <a:off x="1403280" y="2513160"/>
            <a:ext cx="61930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¿Cómo se sentiría una madre si sus hijos estuvieran quejándose constantemente de ella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ángulo 1"/>
          <p:cNvSpPr/>
          <p:nvPr/>
        </p:nvSpPr>
        <p:spPr>
          <a:xfrm>
            <a:off x="1042920" y="2060640"/>
            <a:ext cx="69138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¿como si no tuviera buenas intenciones para con ellos,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uando el esfuerzo de su vida entera hubiese sido fomentar sus intereses y proporcionarles comodidad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ángulo 1"/>
          <p:cNvSpPr/>
          <p:nvPr/>
        </p:nvSpPr>
        <p:spPr>
          <a:xfrm>
            <a:off x="1692360" y="2492280"/>
            <a:ext cx="574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uponed que dudaran de su amor: quebrantarían su coraz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ángulo 1"/>
          <p:cNvSpPr/>
          <p:nvPr/>
        </p:nvSpPr>
        <p:spPr>
          <a:xfrm>
            <a:off x="2124000" y="2138400"/>
            <a:ext cx="509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¿Cómo se sentiría un padre si así lo trataran sus hij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ángulo 1"/>
          <p:cNvSpPr/>
          <p:nvPr/>
        </p:nvSpPr>
        <p:spPr>
          <a:xfrm>
            <a:off x="1187280" y="1944720"/>
            <a:ext cx="667872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¿Y cómo puede mirarnos nuestro Padre celestial cuando desconfiamos de su amor, que le ha inducido a dar a su Hijo unigénito para que tengamos vid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ángulo 1"/>
          <p:cNvSpPr/>
          <p:nvPr/>
        </p:nvSpPr>
        <p:spPr>
          <a:xfrm>
            <a:off x="1692360" y="2025720"/>
            <a:ext cx="581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n cada uno de sus hijos, Jesús envía una carta al m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ángulo 1"/>
          <p:cNvSpPr/>
          <p:nvPr/>
        </p:nvSpPr>
        <p:spPr>
          <a:xfrm>
            <a:off x="1278000" y="2090880"/>
            <a:ext cx="65340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apóstol dice: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"El que ni aun a su propio Hijo perdonó, sino que le entregó por todos nosotros, ¿cómo no nos ha de dar también de pura gracia todas las cosas?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Romanos 3: 3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ángulo 1"/>
          <p:cNvSpPr/>
          <p:nvPr/>
        </p:nvSpPr>
        <p:spPr>
          <a:xfrm>
            <a:off x="1349280" y="2201760"/>
            <a:ext cx="65358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Y sin embargo, cuántos están diciendo con sus hechos si no con sus palabras: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El Señor no dijo esto para mí. Tal vez ame a otros, pero a mí no me ama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ángulo 1"/>
          <p:cNvSpPr/>
          <p:nvPr/>
        </p:nvSpPr>
        <p:spPr>
          <a:xfrm>
            <a:off x="1781280" y="2016000"/>
            <a:ext cx="55274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Todo esto esta destruyendo vuestra propia alma, pues cada palabra de duda que proferís da lugar a las tentaciones de Sataná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ángulo 1"/>
          <p:cNvSpPr/>
          <p:nvPr/>
        </p:nvSpPr>
        <p:spPr>
          <a:xfrm>
            <a:off x="1763640" y="2179800"/>
            <a:ext cx="552600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hace crecer en vosotros la tendencia a dudar y es un agravio de parte vuestra a los ángeles ministrador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ángulo 1"/>
          <p:cNvSpPr/>
          <p:nvPr/>
        </p:nvSpPr>
        <p:spPr>
          <a:xfrm>
            <a:off x="1565280" y="2395440"/>
            <a:ext cx="588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uando Satanás os tiente, no salga de vosotros ninguna palabra de duda o tinieb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ángulo 2"/>
          <p:cNvSpPr/>
          <p:nvPr/>
        </p:nvSpPr>
        <p:spPr>
          <a:xfrm>
            <a:off x="1638360" y="2046240"/>
            <a:ext cx="5597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Si elegís abrir la puerta a sus sugestiones, se llenará vuestra mente de desconfianza y rebelió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ángulo 1"/>
          <p:cNvSpPr/>
          <p:nvPr/>
        </p:nvSpPr>
        <p:spPr>
          <a:xfrm>
            <a:off x="1547640" y="1882800"/>
            <a:ext cx="63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i habláis de vuestros sentimientos, cada duda que expreséis no reaccionará solamente sobre vosotros, sino que será una semilla que germinar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ángulo 1"/>
          <p:cNvSpPr/>
          <p:nvPr/>
        </p:nvSpPr>
        <p:spPr>
          <a:xfrm>
            <a:off x="1655640" y="1989000"/>
            <a:ext cx="55803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y dará fruto en la vida de otros, y tal vez sea imposible contrarrestar la influencia de vuestras palabr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ángulo 1"/>
          <p:cNvSpPr/>
          <p:nvPr/>
        </p:nvSpPr>
        <p:spPr>
          <a:xfrm>
            <a:off x="1133640" y="2209680"/>
            <a:ext cx="675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al vez podáis reponeros vosotros de la hora de la tentación y del lazo de Satan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ángulo 1"/>
          <p:cNvSpPr/>
          <p:nvPr/>
        </p:nvSpPr>
        <p:spPr>
          <a:xfrm>
            <a:off x="1619280" y="1935000"/>
            <a:ext cx="590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as puede ser que otros que hayan sido dominados por vuestra influencia, no puedan escapar de la incredulidad que hayáis  insinu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ángulo 1"/>
          <p:cNvSpPr/>
          <p:nvPr/>
        </p:nvSpPr>
        <p:spPr>
          <a:xfrm>
            <a:off x="1619280" y="2205000"/>
            <a:ext cx="624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 sois discípulos de Cristo, él envía en vosotros una carta a la familia, al pueblo, a la calle donde viví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ángulo 1"/>
          <p:cNvSpPr/>
          <p:nvPr/>
        </p:nvSpPr>
        <p:spPr>
          <a:xfrm>
            <a:off x="1763640" y="1989000"/>
            <a:ext cx="55990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000000"/>
                </a:solidFill>
                <a:latin typeface="Calibri"/>
              </a:rPr>
              <a:t>¡Cuanto importa que hablemos solamente las cosas que den fuerza espiritual y vida!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ángulo 1"/>
          <p:cNvSpPr/>
          <p:nvPr/>
        </p:nvSpPr>
        <p:spPr>
          <a:xfrm>
            <a:off x="1584360" y="2317680"/>
            <a:ext cx="59403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Calibri"/>
              </a:rPr>
              <a:t>Los ángeles están atentos para oír qué clase de informe dais al mundo acerca de vuestro Seño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ángulo 1"/>
          <p:cNvSpPr/>
          <p:nvPr/>
        </p:nvSpPr>
        <p:spPr>
          <a:xfrm>
            <a:off x="1565280" y="2282760"/>
            <a:ext cx="595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nversad de Aquel que vive para interceder por nosotros ante el Pad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ángulo 1"/>
          <p:cNvSpPr/>
          <p:nvPr/>
        </p:nvSpPr>
        <p:spPr>
          <a:xfrm>
            <a:off x="1781280" y="2349360"/>
            <a:ext cx="54547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Esté la alabanza de Dios en vuestros labios y corazones cuando estrechéis la mano de un amig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ángulo 1"/>
          <p:cNvSpPr/>
          <p:nvPr/>
        </p:nvSpPr>
        <p:spPr>
          <a:xfrm>
            <a:off x="1908000" y="2492280"/>
            <a:ext cx="545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o atraerá sus pensamientos a Jesú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ángulo 1"/>
          <p:cNvSpPr/>
          <p:nvPr/>
        </p:nvSpPr>
        <p:spPr>
          <a:xfrm>
            <a:off x="1692360" y="2128680"/>
            <a:ext cx="559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odos tenemos pruebas, aflicciones duras que sobrellevar y tentaciones fuertes que resist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ángulo 1"/>
          <p:cNvSpPr/>
          <p:nvPr/>
        </p:nvSpPr>
        <p:spPr>
          <a:xfrm>
            <a:off x="1709640" y="2209680"/>
            <a:ext cx="552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ero no las contéis a los mortales, antes llevad todo a Dios en o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ángulo 1"/>
          <p:cNvSpPr/>
          <p:nvPr/>
        </p:nvSpPr>
        <p:spPr>
          <a:xfrm>
            <a:off x="1781280" y="2282760"/>
            <a:ext cx="559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engamos por regla el no proferir nunca palabras de duda o desal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ángulo 1"/>
          <p:cNvSpPr/>
          <p:nvPr/>
        </p:nvSpPr>
        <p:spPr>
          <a:xfrm>
            <a:off x="1476360" y="1916280"/>
            <a:ext cx="62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Si hablamos palabras de santo gozo y de esperanza, podremos hacer mucho más para alumbrar el camino de otros y fortalecer sus esfuerz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ángulo 1"/>
          <p:cNvSpPr/>
          <p:nvPr/>
        </p:nvSpPr>
        <p:spPr>
          <a:xfrm>
            <a:off x="1295280" y="2021040"/>
            <a:ext cx="65167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300" spc="-1" strike="noStrike">
                <a:solidFill>
                  <a:srgbClr val="000000"/>
                </a:solidFill>
                <a:latin typeface="Calibri"/>
              </a:rPr>
              <a:t>Hay muchas almas valientes, en extremo acosadas por la tentación, casi a punto de desmayar en el conflicto que sostienen con ellas mismas y con las potencias del m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ángulo 1"/>
          <p:cNvSpPr/>
          <p:nvPr/>
        </p:nvSpPr>
        <p:spPr>
          <a:xfrm>
            <a:off x="1619280" y="2098800"/>
            <a:ext cx="588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Jesús que mora en vosotros, quiere hablar a los corazones que no lo conoc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ángulo 1"/>
          <p:cNvSpPr/>
          <p:nvPr/>
        </p:nvSpPr>
        <p:spPr>
          <a:xfrm>
            <a:off x="1187280" y="2087640"/>
            <a:ext cx="67503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No las desalentéis en su dura lucha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legradlas con palabras de valor, ricas en esperanza, que las impulsen por su cam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ángulo 1"/>
          <p:cNvSpPr/>
          <p:nvPr/>
        </p:nvSpPr>
        <p:spPr>
          <a:xfrm>
            <a:off x="1476360" y="2077920"/>
            <a:ext cx="6120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e este modo la luz de Cristo resplandecerá en vosotros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Ninguno de nosotros vive para sí"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Romanos 14: 7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ángulo 1"/>
          <p:cNvSpPr/>
          <p:nvPr/>
        </p:nvSpPr>
        <p:spPr>
          <a:xfrm>
            <a:off x="1116000" y="2205000"/>
            <a:ext cx="682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or vuestra influencia inconsciente pueden los demás ser alentados y fortaleci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ángulo 1"/>
          <p:cNvSpPr/>
          <p:nvPr/>
        </p:nvSpPr>
        <p:spPr>
          <a:xfrm>
            <a:off x="1494000" y="2349360"/>
            <a:ext cx="610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ueden ser desanimados y apartados de Cristo y de la ver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ángulo 1"/>
          <p:cNvSpPr/>
          <p:nvPr/>
        </p:nvSpPr>
        <p:spPr>
          <a:xfrm>
            <a:off x="1440000" y="2349360"/>
            <a:ext cx="63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Hay muchos que tienen ideas muy erróneas sobre la vida y el carácter de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ángulo 1"/>
          <p:cNvSpPr/>
          <p:nvPr/>
        </p:nvSpPr>
        <p:spPr>
          <a:xfrm>
            <a:off x="1619280" y="2282760"/>
            <a:ext cx="58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iensan que carecía de calor y alegría, que era austero, severo y tris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ángulo 1"/>
          <p:cNvSpPr/>
          <p:nvPr/>
        </p:nvSpPr>
        <p:spPr>
          <a:xfrm>
            <a:off x="1709640" y="2492280"/>
            <a:ext cx="567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ara muchos toda la vida religiosa se presenta bajo este aspecto sombrí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ángulo 1"/>
          <p:cNvSpPr/>
          <p:nvPr/>
        </p:nvSpPr>
        <p:spPr>
          <a:xfrm>
            <a:off x="1494000" y="2282760"/>
            <a:ext cx="617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e dice a menudo que Jesús lloraba, pero que nunca se supo que haya sonreí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ángulo 1"/>
          <p:cNvSpPr/>
          <p:nvPr/>
        </p:nvSpPr>
        <p:spPr>
          <a:xfrm>
            <a:off x="1638360" y="2025720"/>
            <a:ext cx="574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uestro Salvador fue a la verdad un varón de tristezas y do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ángulo 1"/>
          <p:cNvSpPr/>
          <p:nvPr/>
        </p:nvSpPr>
        <p:spPr>
          <a:xfrm>
            <a:off x="1638360" y="2025720"/>
            <a:ext cx="588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orque abrió su corazón a todas las miserias de los homb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ángulo 1"/>
          <p:cNvSpPr/>
          <p:nvPr/>
        </p:nvSpPr>
        <p:spPr>
          <a:xfrm>
            <a:off x="1476360" y="2179800"/>
            <a:ext cx="61549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Tal vez no leen la Biblia o no oyen la voz que les habla en sus páginas; no ven el amor de Dios en sus obr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ángulo 1"/>
          <p:cNvSpPr/>
          <p:nvPr/>
        </p:nvSpPr>
        <p:spPr>
          <a:xfrm>
            <a:off x="1800360" y="2190600"/>
            <a:ext cx="5580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Pero aunque su vida era abnegada y llena de dolores y cuidados, su espíritu no quedaba abrumado por ell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ángulo 1"/>
          <p:cNvSpPr/>
          <p:nvPr/>
        </p:nvSpPr>
        <p:spPr>
          <a:xfrm>
            <a:off x="1979640" y="2349360"/>
            <a:ext cx="552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n su rostro no se veía una expresión de amargura o do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ángulo 1"/>
          <p:cNvSpPr/>
          <p:nvPr/>
        </p:nvSpPr>
        <p:spPr>
          <a:xfrm>
            <a:off x="1709640" y="2060640"/>
            <a:ext cx="588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no siempre de paz y seren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u corazón era un manantial de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ángulo 1"/>
          <p:cNvSpPr/>
          <p:nvPr/>
        </p:nvSpPr>
        <p:spPr>
          <a:xfrm>
            <a:off x="1781280" y="2025720"/>
            <a:ext cx="567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dondequiera iba, llevaba descanso y paz, gozo y aleg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ángulo 1"/>
          <p:cNvSpPr/>
          <p:nvPr/>
        </p:nvSpPr>
        <p:spPr>
          <a:xfrm>
            <a:off x="1349280" y="2395440"/>
            <a:ext cx="61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Nuestro Salvador fue profunda e intensamente serio, pero nunca sombrío o hurañ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ángulo 1"/>
          <p:cNvSpPr/>
          <p:nvPr/>
        </p:nvSpPr>
        <p:spPr>
          <a:xfrm>
            <a:off x="1565280" y="2209680"/>
            <a:ext cx="581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 vida de los que lo imitan estará por cierto llena de propósitos se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ángulo 1"/>
          <p:cNvSpPr/>
          <p:nvPr/>
        </p:nvSpPr>
        <p:spPr>
          <a:xfrm>
            <a:off x="1476360" y="2241720"/>
            <a:ext cx="608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endrán un profundo sentido de su responsabilidad 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ángulo 1"/>
          <p:cNvSpPr/>
          <p:nvPr/>
        </p:nvSpPr>
        <p:spPr>
          <a:xfrm>
            <a:off x="1619280" y="2486160"/>
            <a:ext cx="57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eprimirán la inconsiderada livian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ángulo 1"/>
          <p:cNvSpPr/>
          <p:nvPr/>
        </p:nvSpPr>
        <p:spPr>
          <a:xfrm>
            <a:off x="1835280" y="2349360"/>
            <a:ext cx="55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ntre ellos no habrá júbilo tumultuoso, ni bromas groseras; pues la religión de Jesús da paz como un rí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ángulo 1"/>
          <p:cNvSpPr/>
          <p:nvPr/>
        </p:nvSpPr>
        <p:spPr>
          <a:xfrm>
            <a:off x="1709640" y="1954080"/>
            <a:ext cx="581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extingue la luz del gozo, ni impide la jovialidad, ni oscurece el rostro alegre y sonri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21:08:48Z</dcterms:created>
  <dc:creator>Orlando Rosales</dc:creator>
  <dc:description/>
  <dc:language>en-US</dc:language>
  <cp:lastModifiedBy>Karina de Martin</cp:lastModifiedBy>
  <dcterms:modified xsi:type="dcterms:W3CDTF">2017-03-14T15:52:47Z</dcterms:modified>
  <cp:revision>39</cp:revision>
  <dc:subject/>
  <dc:title>CAPÍTULO 13. La Fuente de Regocijo y Felicidad </dc:title>
</cp:coreProperties>
</file>